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BC9-C181-4D78-8D46-339F7DD1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43C-AEC6-4469-A6F3-76173C8C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AAD-D055-4E19-B871-298190D1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467-1E70-4640-B125-BEA1D4BA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940-933C-466E-88A4-035A7264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A42-1FB6-4FA6-A3EC-C56948BA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BFF-E31C-4CF0-935E-48841C76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D02-D7C1-4002-BC15-F352834A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2CC-B4ED-44FA-BBA9-5F206760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E2E-D227-4DD0-9A2F-42C5BAE7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30F1-6414-495A-A235-CBFDF26F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255-31FF-46D6-8D76-1203C628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4D33F9-772A-46F1-AE2B-96969F74442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довой отчет об исполнении бюджета 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«Верхнеграйворонский сельсовет»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а </a:t>
            </a:r>
            <a:br>
              <a:rPr sz="4900"/>
            </a:br>
            <a:r>
              <a:rPr b="0" lang="ru-RU" sz="4900" spc="-1" strike="noStrike">
                <a:solidFill>
                  <a:srgbClr val="ff0000"/>
                </a:solidFill>
                <a:latin typeface="Microsoft JhengHei"/>
              </a:rPr>
              <a:t>2021</a:t>
            </a:r>
            <a:r>
              <a:rPr b="0" lang="ru-RU" sz="4900" spc="-1" strike="noStrike">
                <a:solidFill>
                  <a:srgbClr val="ff0000"/>
                </a:solidFill>
                <a:latin typeface="Microsoft Himalaya"/>
              </a:rPr>
              <a:t>г</a:t>
            </a:r>
            <a:r>
              <a:rPr b="0" lang="ru-RU" sz="49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49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 rot="16200000">
            <a:off x="1475640" y="1917000"/>
            <a:ext cx="1727280" cy="345600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 rot="16200000">
            <a:off x="6084000" y="1989720"/>
            <a:ext cx="1800000" cy="338292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Arial"/>
              </a:rPr>
              <a:t>Б</a:t>
            </a:r>
            <a:r>
              <a:rPr b="0" lang="ru-RU" sz="6000" spc="-1" strike="noStrike">
                <a:solidFill>
                  <a:srgbClr val="a50021"/>
                </a:solidFill>
                <a:latin typeface="Georgia"/>
              </a:rPr>
              <a:t>юджет основывается н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ерхнеграйворон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Верхнеграйворон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«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Верхнеграйворонский сельсовет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Курской области 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за 202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908000" y="2297160"/>
          <a:ext cx="5619960" cy="4560840"/>
        </p:xfrm>
        <a:graphic>
          <a:graphicData uri="http://schemas.openxmlformats.org/drawingml/2006/table">
            <a:tbl>
              <a:tblPr/>
              <a:tblGrid>
                <a:gridCol w="2670480"/>
                <a:gridCol w="2949480"/>
              </a:tblGrid>
              <a:tr h="10080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го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3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бственные доходы (тыс.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0,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ходы – 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тыс. рубле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43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/про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фицит мест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Верхнеграйворонский сельсовета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» 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з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а </a:t>
            </a:r>
            <a:r>
              <a:rPr b="1" i="1" lang="ru-RU" sz="3000" spc="-1" strike="noStrike">
                <a:solidFill>
                  <a:srgbClr val="c61e0c"/>
                </a:solidFill>
                <a:latin typeface="Microsoft YaHei"/>
              </a:rPr>
              <a:t>2021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60" name="AutoShape 4"/>
            <p:cNvCxnSpPr>
              <a:stCxn id="61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2" name="AutoShape 5"/>
            <p:cNvCxnSpPr>
              <a:stCxn id="63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64" name="AutoShape 6"/>
            <p:cNvCxnSpPr>
              <a:stCxn id="65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66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67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3253,6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177,1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563,6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1512,9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ерхнеграйворонский сельсовет</a:t>
            </a:r>
            <a:r>
              <a:rPr b="0" lang="ru-RU" sz="2800" spc="-1" strike="noStrike">
                <a:solidFill>
                  <a:srgbClr val="0033cc"/>
                </a:solidFill>
                <a:latin typeface="Georgia"/>
              </a:rPr>
              <a:t>»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за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021</a:t>
            </a:r>
            <a:r>
              <a:rPr b="0" lang="ru-RU" sz="40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-1044720" y="2095560"/>
          <a:ext cx="9106200" cy="501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044720" y="2095560"/>
                    <a:ext cx="910620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Верхнеграйворонский сельсовет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»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Курской области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з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а </a:t>
            </a:r>
            <a:r>
              <a:rPr b="0" lang="ru-RU" sz="3300" spc="-1" strike="noStrike">
                <a:solidFill>
                  <a:srgbClr val="da102d"/>
                </a:solidFill>
                <a:latin typeface="Arial"/>
              </a:rPr>
              <a:t>2021</a:t>
            </a:r>
            <a:r>
              <a:rPr b="0" lang="ru-RU" sz="3300" spc="-1" strike="noStrike">
                <a:solidFill>
                  <a:srgbClr val="da102d"/>
                </a:solidFill>
                <a:latin typeface="Georgia"/>
              </a:rPr>
              <a:t> год (тыс.руб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060640"/>
          <a:ext cx="8231040" cy="466236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2764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0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8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лищно-коммунальное хозяйств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Microsoft Yi Baiti"/>
                          <a:ea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70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29</a:t>
                      </a: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43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68360" y="3213000"/>
          <a:ext cx="8219880" cy="731880"/>
        </p:xfrm>
        <a:graphic>
          <a:graphicData uri="http://schemas.openxmlformats.org/drawingml/2006/table">
            <a:tbl>
              <a:tblPr/>
              <a:tblGrid>
                <a:gridCol w="2054160"/>
                <a:gridCol w="1028880"/>
                <a:gridCol w="1027080"/>
                <a:gridCol w="2055600"/>
                <a:gridCol w="2054160"/>
              </a:tblGrid>
              <a:tr h="3661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484360" y="3935520"/>
          <a:ext cx="2254320" cy="365040"/>
        </p:xfrm>
        <a:graphic>
          <a:graphicData uri="http://schemas.openxmlformats.org/drawingml/2006/table">
            <a:tbl>
              <a:tblPr/>
              <a:tblGrid>
                <a:gridCol w="22543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484360" y="2857680"/>
          <a:ext cx="4319640" cy="7207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Рукописный ввод 5" descr=""/>
          <p:cNvPicPr/>
          <p:nvPr/>
        </p:nvPicPr>
        <p:blipFill>
          <a:blip r:embed="rId2"/>
          <a:stretch/>
        </p:blipFill>
        <p:spPr>
          <a:xfrm>
            <a:off x="3684600" y="3105000"/>
            <a:ext cx="306360" cy="1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Верхнеграйворонский сельсовет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»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Курской области </a:t>
            </a:r>
            <a:r>
              <a:rPr b="0" lang="ru-RU" sz="2400" spc="-1" strike="noStrike">
                <a:solidFill>
                  <a:srgbClr val="1818d2"/>
                </a:solidFill>
                <a:latin typeface="Arial"/>
              </a:rPr>
              <a:t>за 2021 год</a:t>
            </a:r>
            <a:r>
              <a:rPr b="0" lang="ru-RU" sz="2400" spc="-1" strike="noStrike">
                <a:solidFill>
                  <a:srgbClr val="1818d2"/>
                </a:solidFill>
                <a:latin typeface="Georgia"/>
              </a:rPr>
              <a:t>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2205000"/>
          <a:ext cx="7343640" cy="5502240"/>
        </p:xfrm>
        <a:graphic>
          <a:graphicData uri="http://schemas.openxmlformats.org/drawingml/2006/table">
            <a:tbl>
              <a:tblPr/>
              <a:tblGrid>
                <a:gridCol w="6570720"/>
                <a:gridCol w="772920"/>
              </a:tblGrid>
              <a:tr h="485640">
                <a:tc rowSpan="2"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Расходы на реализацию муниципальных программ,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95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1. Муниципальная программа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. Муниципальная программа «Развитие транспортной системы, обеспечение перевозки пассажиров в муниципальном образовании « Верхнеграйворонскийсельсовет» Касторенского района Курской области и безопасности дорожного движе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3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Управление муниципальным имуществом и земельными ресурсам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. Муниципальная программа  «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Развитие культуры</a:t>
                      </a: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7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Охрана окружающей среды МО«Верхнеграворонский сельсовет" Касторенского района Курской области"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Верхнеграйворонский сельсовет» Касторенского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ая программа «Социальная поддержка граждан в  МО «Верхнеграйворонский сельсовет» Касторенского  района Курской области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2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0" lang="ru-RU" sz="2400" spc="-1" strike="noStrike">
                <a:solidFill>
                  <a:srgbClr val="da102d"/>
                </a:solidFill>
                <a:latin typeface="Arial"/>
              </a:rPr>
              <a:t>Верхнеграйворонский сельсовет» Касторенского района</a:t>
            </a:r>
            <a:br>
              <a:rPr sz="2400"/>
            </a:br>
            <a:r>
              <a:rPr b="0" lang="ru-RU" sz="24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76360" y="2205000"/>
          <a:ext cx="6132600" cy="384012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Показатель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1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 го</a:t>
                      </a: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щегосударственные вопросы, всег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00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20,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70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Другие общегосударственные вопрос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10,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User</cp:lastModifiedBy>
  <dcterms:modified xsi:type="dcterms:W3CDTF">2023-02-22T05:57:54Z</dcterms:modified>
  <cp:revision>91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