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B7FD-8A1A-4F06-8903-7079A1D8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AC4-AB18-49E1-A61D-34223423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3FEA-C29F-49A4-8C78-618618B6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8875-771A-474E-8E77-6E551645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1CB7-B10A-4279-9776-08E9F8C6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18B1-9C3A-4F35-9828-9A040C95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A4C0-FD51-404F-8987-4A3CB936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CEAD-AB14-4DFD-AE75-CB8D5724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A77A-25B4-4C9E-A5E3-3D91E207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01EB-CF6C-40DE-AAE3-4A9CECA4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23A2-6FFD-4B6F-9AED-F598BEDF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693B-361F-4F4D-A05D-0F17F451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6650FD-F5E4-4B14-A40A-048D774C6F3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4400"/>
            </a:b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муниципального образования 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«Верхнеграйворонский сельсовет»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 Касторенского района Курской области на </a:t>
            </a:r>
            <a:br>
              <a:rPr sz="4900"/>
            </a:br>
            <a:r>
              <a:rPr b="0" lang="ru-RU" sz="4900" spc="-1" strike="noStrike">
                <a:solidFill>
                  <a:srgbClr val="ff0000"/>
                </a:solidFill>
                <a:latin typeface="Microsoft YaHei"/>
              </a:rPr>
              <a:t>2016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 год 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 rot="16200000">
            <a:off x="1475640" y="1917000"/>
            <a:ext cx="1727280" cy="345600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Доходы бюджета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поступающ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бюджет денеж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редства в вид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налоговых , неналоговых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безвозмездных поступл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 rot="16200000">
            <a:off x="6084000" y="1989720"/>
            <a:ext cx="1800000" cy="338292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асходы бюджета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денеж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редства, направляем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на финансовое обеспеч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задач и функций орган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естного само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a50021"/>
                </a:solidFill>
                <a:latin typeface="Georgia"/>
              </a:rPr>
              <a:t>Составление бюджета основывается на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м посл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Основных направл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налоговой поли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Муниципальных програм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ерхнеграйворон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ельсо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огноз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социально-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азвития 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«Верхнеграйворон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ельсо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«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Верхнеграйворонский сельсовет</a:t>
            </a: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» 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Касторенского района </a:t>
            </a: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Курской области на 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2016</a:t>
            </a: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5280" y="2349360"/>
          <a:ext cx="8353440" cy="4561200"/>
        </p:xfrm>
        <a:graphic>
          <a:graphicData uri="http://schemas.openxmlformats.org/drawingml/2006/table">
            <a:tbl>
              <a:tblPr/>
              <a:tblGrid>
                <a:gridCol w="2670120"/>
                <a:gridCol w="1567080"/>
                <a:gridCol w="1560240"/>
                <a:gridCol w="2556000"/>
              </a:tblGrid>
              <a:tr h="100836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го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оходы –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7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11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бственные доходы (тыс.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0,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5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сходы –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4,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3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ефицит местного бюдж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6,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Доходы бюджета муниципального образования «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Верхнеграйворонского сельсовета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» на </a:t>
            </a:r>
            <a:r>
              <a:rPr b="1" i="1" lang="ru-RU" sz="3000" spc="-1" strike="noStrike">
                <a:solidFill>
                  <a:srgbClr val="c61e0c"/>
                </a:solidFill>
                <a:latin typeface="Microsoft YaHei"/>
              </a:rPr>
              <a:t>2016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60" name="AutoShape 4"/>
            <p:cNvCxnSpPr>
              <a:stCxn id="61" idx="0"/>
            </p:cNvCxnSpPr>
            <p:nvPr/>
          </p:nvCxnSpPr>
          <p:spPr>
            <a:xfrm flipV="1" rot="16200000">
              <a:off x="5442480" y="2605680"/>
              <a:ext cx="891720" cy="296460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62" name="AutoShape 5"/>
            <p:cNvCxnSpPr>
              <a:stCxn id="63" idx="0"/>
            </p:cNvCxnSpPr>
            <p:nvPr/>
          </p:nvCxnSpPr>
          <p:spPr>
            <a:xfrm flipV="1" rot="16200000">
              <a:off x="3962520" y="4087440"/>
              <a:ext cx="89172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64" name="AutoShape 6"/>
            <p:cNvCxnSpPr>
              <a:stCxn id="65" idx="0"/>
            </p:cNvCxnSpPr>
            <p:nvPr/>
          </p:nvCxnSpPr>
          <p:spPr>
            <a:xfrm flipH="1" flipV="1" rot="5400000">
              <a:off x="2481480" y="2608200"/>
              <a:ext cx="891720" cy="295956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66" name="AutoShape 7"/>
            <p:cNvGrpSpPr/>
            <p:nvPr/>
          </p:nvGrpSpPr>
          <p:grpSpPr>
            <a:xfrm>
              <a:off x="3108240" y="1844640"/>
              <a:ext cx="2597400" cy="1829520"/>
              <a:chOff x="3108240" y="1844640"/>
              <a:chExt cx="2597400" cy="1829520"/>
            </a:xfrm>
          </p:grpSpPr>
          <p:pic>
            <p:nvPicPr>
              <p:cNvPr id="67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08240" y="1844640"/>
                <a:ext cx="2597400" cy="182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3226320" y="1958760"/>
                <a:ext cx="2361960" cy="15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</a:rPr>
                  <a:t>467,8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" name="AutoShape 8"/>
            <p:cNvSpPr/>
            <p:nvPr/>
          </p:nvSpPr>
          <p:spPr>
            <a:xfrm>
              <a:off x="17928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310,3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AutoShape 9"/>
            <p:cNvSpPr/>
            <p:nvPr/>
          </p:nvSpPr>
          <p:spPr>
            <a:xfrm>
              <a:off x="313992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0,2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AutoShape 10"/>
            <p:cNvSpPr/>
            <p:nvPr/>
          </p:nvSpPr>
          <p:spPr>
            <a:xfrm>
              <a:off x="6102360" y="4533840"/>
              <a:ext cx="253512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157,3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-900000" y="260280"/>
            <a:ext cx="9144000" cy="6851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0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Верхнеграйворонский сельсовет</a:t>
            </a:r>
            <a:r>
              <a:rPr b="0" lang="ru-RU" sz="2800" spc="-1" strike="noStrike">
                <a:solidFill>
                  <a:srgbClr val="0033cc"/>
                </a:solidFill>
                <a:latin typeface="Georgia"/>
              </a:rPr>
              <a:t>»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на 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2016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3"/>
          <p:cNvGraphicFramePr/>
          <p:nvPr/>
        </p:nvGraphicFramePr>
        <p:xfrm>
          <a:off x="-324000" y="2421000"/>
          <a:ext cx="9106200" cy="501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24000" y="2421000"/>
                    <a:ext cx="910620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Расходы бюджета муниципального образования «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Верхнеграйворонский сельсовет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»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Касторенского района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 Курской области на 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2016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 год (тыс.руб.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8360" y="1706400"/>
          <a:ext cx="8231040" cy="318960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  <a:gridCol w="2057400"/>
              </a:tblGrid>
              <a:tr h="2764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Показател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16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Условно утвержденные расх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506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нальная 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оборона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7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Культу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30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Microsoft YaHei"/>
                        </a:rPr>
                        <a:t>Обслуживание государственного и муниципального долг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914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979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муниципального образования «Верхнеграйворонский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 сельсовет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»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Касторенского района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 Курской области в 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2016 году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 (тыс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2205000"/>
          <a:ext cx="9002880" cy="2728800"/>
        </p:xfrm>
        <a:graphic>
          <a:graphicData uri="http://schemas.openxmlformats.org/drawingml/2006/table">
            <a:tbl>
              <a:tblPr/>
              <a:tblGrid>
                <a:gridCol w="6603840"/>
                <a:gridCol w="776520"/>
                <a:gridCol w="776160"/>
                <a:gridCol w="846360"/>
              </a:tblGrid>
              <a:tr h="44928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казат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Расходы на реализацию муниципальных программ, в том числ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349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1. Муниципальная программа «Повышение эффективности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управления финансам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2. Муниципальная программа «Развитие культур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330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3. Муниципальная программа  «Развити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е 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 муниципальной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службы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9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«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Верхнеграйворонский сельсовет» Касторенского района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 Курской области (тыс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2349360"/>
          <a:ext cx="8231040" cy="3840120"/>
        </p:xfrm>
        <a:graphic>
          <a:graphicData uri="http://schemas.openxmlformats.org/drawingml/2006/table">
            <a:tbl>
              <a:tblPr/>
              <a:tblGrid>
                <a:gridCol w="4979880"/>
                <a:gridCol w="1152720"/>
                <a:gridCol w="1079280"/>
                <a:gridCol w="1019160"/>
              </a:tblGrid>
              <a:tr h="7491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Показател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016</a:t>
                      </a: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 го</a:t>
                      </a: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щегосударственные вопросы,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506,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22,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502,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Другие общегосударственные вопрос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682,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Пользователь</cp:lastModifiedBy>
  <dcterms:modified xsi:type="dcterms:W3CDTF">2016-01-16T18:39:24Z</dcterms:modified>
  <cp:revision>69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